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00C-29F9-4FCB-9F2B-EB69A656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B89-18D5-4C4A-B51E-46D89199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DF0-AB8F-4269-80F4-7411EF5C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583-BC58-4E37-9679-89567FE0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5448-4A2D-421C-BAB6-D925EE5B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C925-E53A-4097-8B7B-56F69202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A191-EA70-47C8-9B13-4C45C088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DC45-FBD4-4437-9269-220E7A9E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C1FA-7236-485D-8653-FD785586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6BB9-9F8E-4232-94E8-91AF27E1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D2CE-EDF7-4912-A9E5-964B44B6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E64-854C-4573-887C-523336ED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46B9-F22D-4AB9-909E-BAA0FF48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93EF-2FE6-4C14-B8BF-923394CF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1B21-AE23-4C88-90C9-C9F5837F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C6CD-182F-42C4-9423-7A39939F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EBAA-1F1E-47D4-8D11-DA95990B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E08-91E8-4109-B12C-2D201431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248-24C8-4EA4-947C-3EF3434A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0CC-BEA3-400F-8654-85339206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983-79E8-47AF-B8C3-013F6B24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BC3-189A-4E20-B37E-AD99FEBD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7AB-DB14-49D3-8E13-596B5BFC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F51-7351-494D-AC53-1223352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0287-1F21-42F6-B890-B88589A3ED1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0237-9D8C-42AA-A022-EC4C330C975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146160" y="1809720"/>
            <a:ext cx="90406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876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действие массовой информации на сознание людей нередко достигается с помощью стереотипов и имиджей. Несмотря на обилие научных работ, посвященных проблеме формирования стереотипов, она остается одной из самых малоизученных в психологии журналист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856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ятие «стереотип» впервые введено в оборот известным американским журналистом Уолтером Липпманом в 1922 г. в книге «Общественное мнени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28760" y="856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ереотип - упрощенное, заранее принятое представление, не вытекающее из собственного опыта чело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28760" y="856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едряя стереотипы из области экономики (банкротство — стимулятор, оживитель экономических процессов; смена собственника — благо, гарант процветания предприятия и т. п.), СМИ создают чувство опасности и дискомфорта. Люди становятся заложниками политических решений. Официальная пресса по-прежнему реализует функцию поддержания социальных структур с помощью стереотип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856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Справедливо утверждение, что сегодня «информация» превратилась в инструмент власти, который используется как товар, а последние достижения в области технологии делают его структурным элементом стратегии имперского государства, предначертанным для ротации структуры бюрократической жизни, т. е. управленческого аппарата государства. Именно поэтому информация поступает к потребителю в усеченном виде. Средства массовой информации навязывают определенные правила прочтения социальных отношений, стоящих на службе существующего поряд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02</cp:lastModifiedBy>
  <dcterms:modified xsi:type="dcterms:W3CDTF">2009-12-04T06:27:33Z</dcterms:modified>
  <cp:revision>5</cp:revision>
  <dc:subject/>
  <dc:title>Стереотип, формирование стереотипов в процессе массовой коммуникации</dc:title>
</cp:coreProperties>
</file>